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36B-0062-4002-808F-51E00640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C54-BD02-45E1-B4A9-80C00090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705-CE89-4D0C-8C5F-779EB010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D73-7A67-4217-9E09-8E070D1F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5BD-3CC0-4DA4-9771-1C5D8A24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728-25FB-467C-879A-6B73571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E11-C3F1-41AD-A616-6E50CE2B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AD4-F499-4487-A0EF-B679B6E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52C-B4DB-4C77-96B7-924FE332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73AC-D9DF-44DF-A488-901CFB93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01C-98CD-43D9-B511-AF989668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0A0-2B18-4C10-898E-0546EA1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294C-FAAD-4480-8023-398C6137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62160" y="3105000"/>
            <a:ext cx="481968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siunea iunie-iu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b3s13</cp:lastModifiedBy>
  <dcterms:modified xsi:type="dcterms:W3CDTF">2012-06-18T11:35:41Z</dcterms:modified>
  <cp:revision>26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